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E7DC-9E2D-4686-A6AC-DDC09A00D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B769-7A24-467B-9DA0-F100573A6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BB112B-AFEB-4040-8FC1-DAFBF4F9D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B83252-269C-4CF7-9079-9D46917B9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B8F8FA-E9B6-427C-BC04-1B912B9B5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1A7BBD-D660-467B-B45D-136807E4E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98D371-873E-4C1A-8F26-4445054D1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798966-FBF2-4774-A922-94FBE95FD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81BE81-FC4C-4D1C-B8A4-0FEE40A17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559086-024D-494E-90D4-09A3476FA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480305-94CC-4895-BFFA-D717E13A8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8C663B-251E-4060-A5C0-21066F968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93DC-079B-4195-BC15-0D901678A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96FC5B-C4EE-470E-9A38-0BA54F020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83B665-9F87-429D-9A07-70E66E0A0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E4919E-E2F5-4072-A044-6DA442560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4893F6-1366-4DA7-9B23-7BEDC678B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1AE45F-C17B-4BCB-8AF4-F736ADC70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C24E79-9C39-4430-BCF9-0D3DC4E71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B52B51-4B36-4F88-A310-BA3F786F2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84E15D-1EBE-4902-ADAB-15015F43D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D29FA6-454E-48EA-9289-F40413659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886DC1-2228-44C7-8746-0478AFE82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23DB-2694-4298-B5A3-7CC282B15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E7C764-2E24-4EC8-8B50-56DC331E5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151F84-84EF-462F-917F-E0D33859B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47FD92-3F20-44A9-89F4-3A97F3301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E48B74-305F-427B-864B-9156A450E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880C2D-69A9-40EA-9B3F-B6E74E688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A04C34-786A-4505-9429-CD1C582C7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873E47-4FC1-4394-B07D-3C545E9AB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500C37-C623-4DDE-83AC-4DCD58B45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BDD16A-7E86-4914-B816-27AAF511C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C7D808-378E-4E2B-B016-08AE3EC62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CA6BE-46A4-4A80-B69F-113AAE6B1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83040C-898D-495D-A449-EB8450D8B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6B3C0C-36C3-499B-BABE-65B430716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32D531-5190-45E2-A4CA-6AF78EE9B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8878A8-5BAA-49DA-8394-9480ABC77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C08713-C530-4176-B63F-FB04519D5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1BD6FE-CFEF-4F8D-B3CA-F06B4F9A8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A59221-AC27-4E89-991D-62D570C0B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E90780-4213-424C-A4B3-153A98A58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EA4DFF-DF5E-4505-97CB-B42607AFA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F68F2D-2257-4558-BF9E-E25C15C69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CF038-E820-4E12-B000-E8AF88A6F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41E503-0B2C-49A9-95A1-FBD64ECCB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1BBFFA-3E89-470D-AEC0-1C3741D38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817335-3957-43EE-8F95-C300DF979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040B8F-8B3B-4756-A6D3-9FE17D8E6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F9250B-16AB-4B73-88FE-CA5510534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EBFF1-6589-4F3F-B9AD-572A7A780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7229F-8676-437C-B70E-D56B2EF17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F0925-194E-470F-BF06-63406C29D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5481A-7413-4EA6-9573-4B620C679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38A9B-2F09-40E2-8A7F-ED4EAC57A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8AE4-4445-45BA-8E0D-17EE19362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AD622-575C-49CE-B1DE-9BD214442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2D3DB-A4A6-417A-A3F1-BEB81F580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992B2-E0E8-416D-BA31-DC545B1C4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819E5-2B48-4E84-BA88-AB78F3BFE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9F382-5859-48DE-97A2-2A0E961B4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12D51-AEFA-48AF-9C29-CF3573B08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A52BB-3447-483C-B658-BE94048DF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E1CB5-91E3-4A84-9DD6-50707E674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2EFF7-9EB6-4664-9D80-EDDBFDB32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9DA1D-4445-4C8A-9C24-DE5A3A0B9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EF73-7D91-457D-829D-2FAEDE2FB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8E896-3618-4F5B-8994-6CBAA31EC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1401B-4DD8-4A29-91D0-E64F8529C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A117E-463D-42DE-9753-F9D16B097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B34F5-069D-435A-945E-AB322DD25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D56C1-97D8-4F19-A8B6-E364AB876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59C44-B572-477A-9B33-F296AA0A3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0CEB0-25E3-4B97-AD8C-F6703CD18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CADA7-C42B-4BEC-8685-D46B419CE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764BF-028E-43E4-81B9-7A8462E3A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C558B-C05E-4848-954D-501DDF42D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12A3-1FCD-415A-99A9-D0EB05E0F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B6C82-BC72-4E39-B6CD-D669FEF75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96733-660C-49C6-B2D9-09E6C6348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ACAEE-9607-4042-9433-BF40F5AC8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015B7-69C1-48E7-9C86-0717DA363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02FFD-3033-490B-9FD3-2E47EB846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A6189-52DE-4690-B9A4-698FC56AC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82C14-7337-42F6-B0EE-7C91CBE15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3A91C-D571-425C-A6B9-825AC0A27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2F0EA-9018-4C4E-BDA6-A7DA62A9E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CA4387-66F8-4327-9447-0CE81B0B2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94AD-9B5D-433C-95A6-D9CC44E92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551EFD-B656-42CF-8329-CCAFB39D0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C2B283-62E2-4D12-AF4C-9E73F839D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A978BC-5ABF-4757-9DA1-63E011E88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A6F07-25AF-4CD6-930A-C332F66AF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4F2E7A-A021-413D-98B8-752606253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B86672-30E9-4F3D-AA15-EEFA7555A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B6673E-4C42-4F01-BC5D-B14C554B9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08E172-24E9-4ECF-ABE4-58BFEF122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588329-3E5B-4E62-9ECC-9D54D21DF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754F29-47E0-42F5-8D35-B63169CE7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1A01-CC4E-4E87-88F2-346BBF8B4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1485D6-C460-4D26-992E-218F6440D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125E70-2011-4459-BC5E-AB8F1ABD0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A274F4-37CD-4C42-8975-A29205C9F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A59884-5320-4C91-B4AB-E47763107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403F4E-9FCE-4B01-988C-2CBAFFFDB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A63070-52DF-49B6-803D-B15CFED5A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56CEEC-548E-4A2F-8150-5C805AF6B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2DB14E-10C7-4174-ADD9-989B706A7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A25C99-344B-4113-882F-BBB83505E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1C4D28-D6A3-44BF-981D-A195BD28F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E109-56C5-4F27-B85D-13EF31AA8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3BB3AB-D822-4D63-98E5-F649C0C9C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A73AAD-13F3-43D7-B8F8-930AB66CC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BEC9C4-61EE-4B5F-A7B4-931C3949A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CB8AAC-5F35-4FEF-96F8-91846F7B3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39132C-33D1-4C16-87A2-B7D30695D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3E398C-259D-43A8-B4B5-BC61588BE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DC9CDC-B83E-49AC-A2EA-44EF634FA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B43C7F-2E4B-4C50-8A47-FE5B35DE3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9F66A4-6B8C-4ABE-BFB8-9E0E59C3D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4C4890-5AC9-40AF-9B3E-FC8ABE620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09C1-2690-4759-BB9F-57EC6DFEF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A63A38-96ED-4637-B0F8-8A52E200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BEC00A-6604-457D-B3A8-63AC52C7A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538713-C6B7-40E3-8507-BDE2C297B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EAFB62-1084-4FA0-A56F-A6472DBCC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64D34E-5005-48AA-BE65-F5ABC9000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6E5B36-EA91-4FE1-AC1F-87D3A98B6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8C2290-8A94-4F95-8696-A4BC8E26E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68BD46-C8A8-4F62-BC5A-BE1845CE3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F75813-8815-4818-8874-0BB203196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136E48-5453-451C-A8C8-225255D52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BBF1-0DAA-4435-84F5-B3ADE22F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354449-84E3-43CE-837B-B7A716455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13F418-8E1A-4A27-B474-D0511D7FF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59B8DF-5A6A-4A9E-8039-3FADF09F4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8EA7DB-4447-4834-AB41-D0775D138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54FB36-D67E-4FA1-99AE-1BA917610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009F5B-ECD8-401B-8DE8-D6F3992F2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B54F87-D4BA-4A89-A6CE-3CAC329FE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E3C491-498C-43F4-883D-07940D57A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5DA296-84F2-4149-AACD-75DACC931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64F8C8-5E7E-4DAE-BAB7-2F9335219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4467B-5F9F-4270-9553-E44F09E9242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2BA52-479A-47BA-9B2E-4BB8D17D12D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313AB-08B5-4A48-9F05-0F69058BD86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C07DC-ED7E-42C4-9902-D707EDADD41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0FF30-0A73-4437-B5D8-D93F8BBEBC9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F55F9-BDF0-49D0-B4DC-762A4A923DF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E1D2E-8E10-4571-B874-7FDB737E8F6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E152B-4082-445E-8ECB-D6764ECC94B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B1727-472D-4C2B-86C5-74B89A1B9F9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F5535-EF4E-46A2-B948-F1F73163CF5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BDCEF-984F-4589-889F-F1FDAD222D4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03A1C-4B61-4400-9A6B-7278001BF77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376 Nech nám srdcia plní rados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ch nám srdcia plní rados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ďačnosti a lásky cit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tec v nebi zve nás deťm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my smieme jeho by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adostný tón našej piesn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o sŕdc vložil Spasiteľ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baviť nás chce smútku tiesn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lízko je už slávy cie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oh nás ako Otec verný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edie, chráni, žehnáv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aždú bolesť láskou miern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j keď občas trestáv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adostný tón našej piesn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o sŕdc vložil Spasiteľ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baviť nás chce smútku tiesn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lízko je už slávy cie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rázcestí keď nám voli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reba správnu z rôznych ciest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 Pánom smieme vždy sa spojiť,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 domovu on chce nás vie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adostný tón našej piesn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o sŕdc vložil Spasiteľ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baviť nás chce smútku tiesn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lízko je už slávy cieľ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12T13:50:25Z</dcterms:modified>
  <cp:revision>78</cp:revision>
  <dc:subject/>
  <dc:title>Je veľký náš Pán, on slávy je Kráľ Nech do všetkých strán  spev vrúcnych znie chvál.</dc:title>
</cp:coreProperties>
</file>